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E7B60-51DB-4D31-A2EF-8081DC432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D37B3-1B32-4523-A250-C23D6CCB2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A921B-D67E-4CAA-BBB9-F834D1190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AA627-3F2C-471C-A545-B5AAD8F5F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359CF-D339-4A3E-A832-5FE85337D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86ADD-4B0B-49AF-85DB-A9BDD5A0D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ADDC8-BF94-41BC-A4D3-02761FC0E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DC464-B0E5-4CBE-9049-CA99DD9D1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BAB76-EA9F-4E44-AFC2-6EC5DBDA9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E4339-979D-417C-AA94-4FE9B9D4A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E5DB8-6E68-4611-B4B2-6A42DE507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34B7A-5540-47CE-BEB7-2B55634E6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841E6-F9C8-4AD0-B0D0-BB9D74397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293FA-6298-464D-9567-BC78D25FA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7D4DC-9877-4903-BB8C-88A6E932A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B524B-097E-47AD-9302-2AB5CD1C8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FCFB5-5FCE-467B-A4FF-4C27BBDB2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BDF7A-472B-49F1-A492-2EEBDEF9D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A2DE-493D-4B62-AD80-17FF4D930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ACC34-4E04-44F1-B44C-6718BA0A1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8002D-DFF8-4420-9076-A574891D4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82C2-93D9-4B6F-B145-6BB4349C4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61FC2-3508-4248-9E24-7A2BA3FA1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8C536-DA42-4DF5-A76C-1B5054062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AA8E-FC63-42E5-94C8-83475377FE62}"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64F4-F0C0-4C6F-B3DB-E6767213C4C3}"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ategory/Grade/Subject Session x of y</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is a follow up to what participants learned.  In this area you will provide a short explanation of what participants learned and indicate that it is now time to share the work of participants who did the work explained in the teaching i.e. Today we learned how to…now we will look at how a few of you…</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do?</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Place your focusing questions here.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y should match your content and technology teaching points.</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Use this slide to tell participants what we’ll be teaching them.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 explanation should indicate how this lesson fits into the work they’ve been doing and how it fits into their lives as teachers and learner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Use these slides to explain and demonstrate what we want participants to do.  You may choose to insert websites videos or text files her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Explain how participants will practice the strategy you’ve taugh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ere’s where you’ll explain how this lesson is linked to the ongoing work of today’s session. It should provide an overview of what they will be doing during work tim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slide should provide an overview of what participants will be doing during work time independently, in partnerships or in small group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iam Heller</cp:lastModifiedBy>
  <dcterms:modified xsi:type="dcterms:W3CDTF">2006-08-10T10:19:09Z</dcterms:modified>
  <cp:revision>1</cp:revision>
  <dc:subject/>
  <dc:title>Workshop Title</dc:title>
</cp:coreProperties>
</file>